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3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png" ContentType="image/png"/>
  <Override PartName="/ppt/media/image30.jpeg" ContentType="image/jpeg"/>
  <Override PartName="/ppt/media/image24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668-F1C0-4D5A-9381-F57E74FC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CE6B-20B7-4D17-8AE4-635B4124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769-EE90-4CCB-A275-E920BC4C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B43-EAFC-4D61-AAB9-ED35F0A4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F2AB-80E1-4EDF-8450-D632C37C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6EA0-909E-4E39-8AE5-3B84A7A0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4161-DECB-4003-903A-9DB5DD0C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9BC8-2BC2-41BB-A6DE-41DD7698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AE32-9368-422B-AA0A-7C5D424E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B2B4-AE35-47F1-9B96-E1C584A4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A8D3-771F-409D-A09E-62A605C7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07B-2D3D-4BFA-8FB6-F48B1EB3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36B8-84EF-4078-9739-73C10BF7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00EF-F811-47AB-8A81-97D61C35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7CB6-C9E7-42BC-93BC-A955D07C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EE06-27D7-425B-AE35-7EEE2A47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4677-00F9-454C-80DC-E613AF2C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EDB-AEEB-49C8-A40B-EE7E5837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F6F-06B0-48EB-ADE4-72EF6D56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5A7-4E5B-4FDE-AAEE-D1E563AD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18C-8ADA-46DE-8A54-036AD427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6E3-93D8-4AE9-BB3C-DEF151B0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1A0-B4BE-4418-9626-B23A0B88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8A2-7BEC-43CE-8475-BA3707ED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00C8-77D9-4C65-977E-F424DDB9E30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49EA-D303-46F0-AFD0-3B2FF70D9D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y: Zachary Sittig &amp; Nolan Wals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 do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ardtop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ad leather upholste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idered a luxury c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8 eng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ongest running American luxury c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2" name="Content Placeholder 4" descr="1957-Cadillac-Series-62-Hardtop-2.jpg"/>
          <p:cNvPicPr/>
          <p:nvPr/>
        </p:nvPicPr>
        <p:blipFill>
          <a:blip r:embed="rId2"/>
          <a:stretch/>
        </p:blipFill>
        <p:spPr>
          <a:xfrm>
            <a:off x="4667400" y="3362400"/>
            <a:ext cx="4000320" cy="1446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125" name="Content Placeholder 4" descr="50_chrysler.jpg"/>
          <p:cNvPicPr/>
          <p:nvPr/>
        </p:nvPicPr>
        <p:blipFill>
          <a:blip r:embed="rId2"/>
          <a:stretch/>
        </p:blipFill>
        <p:spPr>
          <a:xfrm>
            <a:off x="571680" y="3094200"/>
            <a:ext cx="3809880" cy="1981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4 door sed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80 horsepower eng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d a thick, leather covered pad of sponge rubber across the instrument panel as safety featu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ard top body sty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idered an economy c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de in German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d and air cooled rear eng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ar wheel driv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ver 21 million sold in al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ototyped a 1.3 liter diesel eng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0" name="Content Placeholder 4" descr="59_VW_Frt_LH.jpg"/>
          <p:cNvPicPr/>
          <p:nvPr/>
        </p:nvPicPr>
        <p:blipFill>
          <a:blip r:embed="rId2"/>
          <a:stretch/>
        </p:blipFill>
        <p:spPr>
          <a:xfrm>
            <a:off x="4648320" y="2782800"/>
            <a:ext cx="4038480" cy="270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133" name="Content Placeholder 4" descr="1954_chevrolet_corvette_convertible_m.jpg"/>
          <p:cNvPicPr/>
          <p:nvPr/>
        </p:nvPicPr>
        <p:blipFill>
          <a:blip r:embed="rId2"/>
          <a:stretch/>
        </p:blipFill>
        <p:spPr>
          <a:xfrm>
            <a:off x="457200" y="2836800"/>
            <a:ext cx="4038480" cy="2649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eatured removable plastic side curtains for window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 speed automatic transmiss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st: $2774.0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idered a boulevard cruiser and sports c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ough year for the Corvet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ull size c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ame as hard top or converti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vertible roof was non-detach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8 eng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62 horsepow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8" name="Content Placeholder 4" descr="110127_1955_Chevrolet_Bel_Air_2-Door_Sedan.jpg"/>
          <p:cNvPicPr/>
          <p:nvPr/>
        </p:nvPicPr>
        <p:blipFill>
          <a:blip r:embed="rId2"/>
          <a:stretch/>
        </p:blipFill>
        <p:spPr>
          <a:xfrm>
            <a:off x="4648320" y="2570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141" name="Content Placeholder 4" descr="1953_Dodge_Coronet_D-48.jpg"/>
          <p:cNvPicPr/>
          <p:nvPr/>
        </p:nvPicPr>
        <p:blipFill>
          <a:blip r:embed="rId2"/>
          <a:stretch/>
        </p:blipFill>
        <p:spPr>
          <a:xfrm>
            <a:off x="228600" y="2743200"/>
            <a:ext cx="4335480" cy="2158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ardtop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ull-size c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3-speed automatic transmiss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-cylinder eng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d for forms of rac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 do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od-panel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ardtop body sty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rysler had other improved cars such a the Town and Country which was a hard top but than didn’t sell good and only sold in 1950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0" name="Content Placeholder 4" descr="1950_Chrysler_Newport_Coupe_woodie.jpg"/>
          <p:cNvPicPr/>
          <p:nvPr/>
        </p:nvPicPr>
        <p:blipFill>
          <a:blip r:embed="rId2"/>
          <a:stretch/>
        </p:blipFill>
        <p:spPr>
          <a:xfrm>
            <a:off x="4648320" y="2938320"/>
            <a:ext cx="4038480" cy="2293920"/>
          </a:xfrm>
          <a:prstGeom prst="rect">
            <a:avLst/>
          </a:prstGeom>
          <a:ln w="0">
            <a:noFill/>
          </a:ln>
        </p:spPr>
      </p:pic>
      <p:pic>
        <p:nvPicPr>
          <p:cNvPr id="91" name="slide one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6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4" descr="1950-chevrolet-020.jpg"/>
          <p:cNvPicPr/>
          <p:nvPr/>
        </p:nvPicPr>
        <p:blipFill>
          <a:blip r:embed="rId2"/>
          <a:stretch/>
        </p:blipFill>
        <p:spPr>
          <a:xfrm>
            <a:off x="304920" y="1981080"/>
            <a:ext cx="4179600" cy="2743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ad a great influence on the automobile market in the 50’s &amp; 60’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ad the first fuel injected eng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mall block V8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5" name="slide two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085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Ford F1 was a half-ton truc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riginated in 1948 and continued into the 50’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was a 3 speed light truck. It was not meant for heavy du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had a massive horse power engine of……….. 95 HP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8" name="Content Placeholder 4" descr="1950-Ford-F1-Pickup-blue-re.jpg"/>
          <p:cNvPicPr/>
          <p:nvPr/>
        </p:nvPicPr>
        <p:blipFill>
          <a:blip r:embed="rId2"/>
          <a:stretch/>
        </p:blipFill>
        <p:spPr>
          <a:xfrm>
            <a:off x="4800600" y="1981080"/>
            <a:ext cx="4064040" cy="3321000"/>
          </a:xfrm>
          <a:prstGeom prst="rect">
            <a:avLst/>
          </a:prstGeom>
          <a:ln w="0">
            <a:noFill/>
          </a:ln>
        </p:spPr>
      </p:pic>
      <p:pic>
        <p:nvPicPr>
          <p:cNvPr id="99" name="slide three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50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4" descr="1950-plymouth-ad.jpg"/>
          <p:cNvPicPr/>
          <p:nvPr/>
        </p:nvPicPr>
        <p:blipFill>
          <a:blip r:embed="rId2"/>
          <a:stretch/>
        </p:blipFill>
        <p:spPr>
          <a:xfrm>
            <a:off x="380880" y="2438280"/>
            <a:ext cx="4291200" cy="25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re is an add from 1950 for the first Plymouth 4 door sedan type c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lymouth later starts to own other car companies but eventually gives the companies to Chrysl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Jeep was first founded during WWI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kes great off-roading vehicle and was very helpful in WWI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’s origin is said to have come from the Cartoon Pop-ey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rysler owns Jeep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6" name="Content Placeholder 4" descr="3831769860_f1d541c8cc.jpg"/>
          <p:cNvPicPr/>
          <p:nvPr/>
        </p:nvPicPr>
        <p:blipFill>
          <a:blip r:embed="rId2"/>
          <a:stretch/>
        </p:blipFill>
        <p:spPr>
          <a:xfrm>
            <a:off x="4933800" y="1773360"/>
            <a:ext cx="3467160" cy="4624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109" name="Content Placeholder 4" descr="1950 dodge.jpg"/>
          <p:cNvPicPr/>
          <p:nvPr/>
        </p:nvPicPr>
        <p:blipFill>
          <a:blip r:embed="rId2"/>
          <a:stretch/>
        </p:blipFill>
        <p:spPr>
          <a:xfrm>
            <a:off x="380880" y="2057400"/>
            <a:ext cx="3873600" cy="2971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723920" y="1752480"/>
            <a:ext cx="4038840" cy="4624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roduced power steering &amp; brak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3-Speed automatic transmiss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2-volt electrical syste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ad a wooden b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orts c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oduced until 197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d as a racing c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as 6-cylind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ached the speed of about 100-150 mp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4-speed transmiss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4" name="Content Placeholder 4" descr="1959Austin-Healey3000-Front.jpg"/>
          <p:cNvPicPr/>
          <p:nvPr/>
        </p:nvPicPr>
        <p:blipFill>
          <a:blip r:embed="rId2"/>
          <a:stretch/>
        </p:blipFill>
        <p:spPr>
          <a:xfrm>
            <a:off x="4648320" y="2570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ull size c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place Buick Speci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ad V8 eng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ar driv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6 passenge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3-speed manual transmiss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8" name="Content Placeholder 5" descr="250px-Buick_LeSabre_1959_1.jpg"/>
          <p:cNvPicPr/>
          <p:nvPr/>
        </p:nvPicPr>
        <p:blipFill>
          <a:blip r:embed="rId2"/>
          <a:stretch/>
        </p:blipFill>
        <p:spPr>
          <a:xfrm>
            <a:off x="546120" y="2286000"/>
            <a:ext cx="4052880" cy="3048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9:11:41Z</dcterms:created>
  <dc:creator>asdfg</dc:creator>
  <dc:description/>
  <dc:language>en-US</dc:language>
  <cp:lastModifiedBy>Administrator</cp:lastModifiedBy>
  <dcterms:modified xsi:type="dcterms:W3CDTF">2010-05-21T20:10:13Z</dcterms:modified>
  <cp:revision>30</cp:revision>
  <dc:subject/>
  <dc:title>Cars of the 1950s</dc:title>
</cp:coreProperties>
</file>